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718-FE13-4F60-952D-CAF0D72B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BD7-A8C5-4E00-9A73-547C51D7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E22D8-850B-4D98-AF2F-A133C7C7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39A75-C27C-4609-9B45-FF4B2EAF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478B3-FA5A-4B46-9D70-FAE5F85F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373E8-7366-4AAA-ADF1-B440423C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8A271-D9E8-44D4-AF30-D7FDEBA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7C9E8-B7AF-44CB-8C11-9391A32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7AF8E-C2B3-4FB3-B9F1-70F4B74A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077E3-310E-4B61-AD28-6839FF1C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51D24-6197-46FA-A0EF-A9BA4132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216-02BA-4841-BFFF-EF521D57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456-AAE0-42B8-807B-DE514E68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D76E-131F-4F45-9D4A-EDD22194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CCFD-5C34-4EFA-90C5-57C78B29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F819-0808-4974-BD07-9A2CE1B3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F76A-D911-43AE-8165-40E3F7BA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5F67-F02A-480E-AA01-669DBBEC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2BD4-CAFD-41E5-9E31-F1F73A34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9E78-0FE1-48B0-BD19-49D5ACB3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388-DF74-421B-9C34-ED555B8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2328-8F98-416B-93E9-17484535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F22B-B350-41F5-8E6A-C1A7174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1F0D-F1C0-452A-8BE1-958DC749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C957-9E7E-4A34-8A74-C212D524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DAB5-7CB4-4C11-BA71-B60499FF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A1B9-E4CE-4863-B97A-DEEDFB3F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2EFD-ED68-4A83-B2A7-8E6B05E8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3D3F-048F-49FD-873D-4682A2BD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D469-68DC-42D8-96A4-1F9B44D6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A373-4028-4E41-966D-E59AA0FD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670-216E-45CB-8992-7771E3A5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AF90D-1A57-4E2F-A2A1-1F11D3AE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E4C4-1300-4321-8456-EAC8A970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3050-7398-4944-8DAC-BFDEB28D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375C-0A78-49BB-B976-E6E3225F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A0072-97E8-49BA-AB4D-6AFF124B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9DFF1-62D8-4505-91C4-959A42D0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C77E-54E8-4876-BE74-CA341A63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E9B0B-A9E4-4752-B12F-0765B2CE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D08CD-7952-4CAB-84BA-496950FB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C1C9-54E2-4F91-802F-21BF612E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406-1913-44CA-BA56-C55100EB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92676-9F28-4FEE-9F74-CDB67EA1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B10E1-ABAC-4403-BEE8-B61867D4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0FC6-2D5E-4CB5-BFA9-CC260B12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2CFCA-59E3-481B-B2E7-1AA23960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4E573-546B-49AF-86FB-2F8A428C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7E0F5-95D6-456E-A4FC-BAA2C0FE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571FA-ECE4-466B-8543-51DC67B6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A7600-001E-49B0-AA60-6FE281C4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CC32B-6EB6-4DB9-BCA6-61149BBD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22CDE-F88D-48B5-A5A4-83FB5B50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A87-154A-4386-9AFD-BC9FC39C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5F1A4-C8B1-4C84-BEC9-4E5A100E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1BABF-56E0-4CF0-9484-A4B0BB87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1DEE-FA89-480E-AD79-3D24B7C8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99A9-EE19-499E-B203-AA57CE99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BC91-5466-46B3-970D-63223994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43134-CAF4-4BD9-B99F-95061D34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DC4C-A93B-44AD-BF8C-BCE0FCED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E86AF-8F02-442A-8801-332145A6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ADE96-C80B-4326-A8EA-FF3C43DE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53E7D-9021-43F9-9E53-E291DDD9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A86-6E09-45D9-A3FB-42A2CE90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D602-0FD7-4034-8BE3-6C65A83F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6E906-21BE-4A87-AD0A-0A6B563D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AFE29-05F0-4E00-B60C-299F99C8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95D06-EB45-4647-BD35-F87A256B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3BF64-280E-4FEB-8669-87B97D2E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3FD6C-D07A-49FF-A660-7FE64738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4ABC-D879-4262-925F-323E3551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BDFB4-044A-4B4D-A594-55C3B9D7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84A0E-4E11-4B5E-B0E8-14449654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F7A01-30CD-41A4-973E-C96B6603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3CB-0D73-4C50-B647-4CC044B7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892F7-90EE-443D-9836-00428DCC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427DF-BC5D-4840-81F0-C02D236C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4739B-66BC-4637-B8B8-C58BF60F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8EE4A-232B-4D92-9434-9403685F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D7D97-1756-45CE-B0D0-5EB78380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B46D4-AF49-4CA5-813B-D3712DB4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A18EE-062B-4744-8B4F-63D9C0BC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054C3-73D6-4C42-BEA6-D1187B50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7AAB5-0B53-41C2-8C86-766EC625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AB1F1-7EE6-4C02-806E-E9BADC4B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595-4AB9-44F6-89DF-01EA97C6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3A28D-86CD-43BA-8AA3-B5E2B114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39D6A-938C-4B23-A314-3FBE381C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79CDB-F30C-497D-BF7E-F82DF8CE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0DC0A-DE5D-474E-9E2C-39D0FC3B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9D922-4CF5-4F5A-BEDD-68F9734E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D98BD-CB07-4C79-AC54-FF7FC40B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D7680-D1EA-41E6-8BB3-12735338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93A57-5728-40D9-BD0A-CE7B4C37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0A110-7283-4DD3-99A3-07EB3D14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82A3F-8FEA-4359-AC35-FF030EC5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105-DD96-49D2-9E82-381A74A9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14E69-DBC7-4688-BD77-A468B651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71DCC-1104-4E34-B1F1-483B61C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BC3EB-E023-463D-A258-3F7C473E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10945-6667-4F64-AD9E-9AAA57D8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A1414-2DF1-4579-893A-27A3519A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DBA00-111B-4541-B0BD-526F3089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64FA8-68AA-4B83-A4E6-ABC9DC60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4F19E-D144-4A82-AD8D-593F6E59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C3567-8CB5-40A2-BDB3-4057008B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D5821-6E6D-49F5-AE91-69028F7E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BE63-9B8C-4A91-B215-EC3848F048DB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B59F-D2AD-4E67-BC0E-4E494ACC51B4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D06C-8ED1-4144-9311-0F6FD89690D3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859B-56B6-4400-98BD-576D73AEB61E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6238-D2F0-419A-AFCC-5121CFB29F10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D486-A8C6-4A62-95DE-1C4DD418D8CE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2F8F-CED4-4F82-9335-D510D3BA5456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3E97-00D8-42F0-A6BD-C63B7C7DFEA5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9C20-26CC-43EB-A84B-936CB0C4BEDE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3 Imagen" descr="lluvia_de_letras-13240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023240"/>
          </a:xfrm>
          <a:prstGeom prst="rect">
            <a:avLst/>
          </a:prstGeom>
          <a:ln w="0">
            <a:noFill/>
          </a:ln>
        </p:spPr>
      </p:pic>
      <p:sp>
        <p:nvSpPr>
          <p:cNvPr id="400" name="5 CuadroTexto"/>
          <p:cNvSpPr/>
          <p:nvPr/>
        </p:nvSpPr>
        <p:spPr>
          <a:xfrm>
            <a:off x="0" y="4724280"/>
            <a:ext cx="6516720" cy="1556280"/>
          </a:xfrm>
          <a:prstGeom prst="rect">
            <a:avLst/>
          </a:prstGeom>
          <a:solidFill>
            <a:srgbClr val="fce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Franklin Gothic Book"/>
              </a:rPr>
              <a:t>Miguel and  Marc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lang="es-MX" sz="3200" spc="-1" strike="noStrike">
                <a:solidFill>
                  <a:srgbClr val="000000"/>
                </a:solidFill>
                <a:latin typeface="Franklin Gothic Book"/>
              </a:rPr>
              <a:t>Homework  February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3 Imagen" descr="lluvia_de_letras-13240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023240"/>
          </a:xfrm>
          <a:prstGeom prst="rect">
            <a:avLst/>
          </a:prstGeom>
          <a:ln w="0">
            <a:noFill/>
          </a:ln>
        </p:spPr>
      </p:pic>
      <p:sp>
        <p:nvSpPr>
          <p:cNvPr id="433" name="4 CuadroTexto"/>
          <p:cNvSpPr/>
          <p:nvPr/>
        </p:nvSpPr>
        <p:spPr>
          <a:xfrm>
            <a:off x="900000" y="692280"/>
            <a:ext cx="3167280" cy="106884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Franklin Gothic Book"/>
              </a:rPr>
              <a:t>AUXILIARY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5 CuadroTexto"/>
          <p:cNvSpPr/>
          <p:nvPr/>
        </p:nvSpPr>
        <p:spPr>
          <a:xfrm>
            <a:off x="826920" y="1628640"/>
            <a:ext cx="7274160" cy="131364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ranklin Gothic Book"/>
              </a:rPr>
              <a:t>Auxiliary Verbs</a:t>
            </a: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 are the verbs </a:t>
            </a:r>
            <a:r>
              <a:rPr b="0" i="1" lang="es-ES" sz="2000" spc="-1" strike="noStrike">
                <a:solidFill>
                  <a:srgbClr val="000000"/>
                </a:solidFill>
                <a:latin typeface="Franklin Gothic Book"/>
              </a:rPr>
              <a:t>be</a:t>
            </a: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Franklin Gothic Book"/>
              </a:rPr>
              <a:t>do</a:t>
            </a: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Franklin Gothic Book"/>
              </a:rPr>
              <a:t>have</a:t>
            </a: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Franklin Gothic Book"/>
              </a:rPr>
              <a:t>will</a:t>
            </a: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 when they are followed by another verb (the </a:t>
            </a:r>
            <a:r>
              <a:rPr b="0" i="1" lang="es-ES" sz="2000" spc="-1" strike="noStrike">
                <a:solidFill>
                  <a:srgbClr val="000000"/>
                </a:solidFill>
                <a:latin typeface="Franklin Gothic Book"/>
              </a:rPr>
              <a:t>full verb</a:t>
            </a: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) in order to form a question, a negative sentence, a compound tense or the pas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6 CuadroTexto"/>
          <p:cNvSpPr/>
          <p:nvPr/>
        </p:nvSpPr>
        <p:spPr>
          <a:xfrm>
            <a:off x="826920" y="3141720"/>
            <a:ext cx="7274160" cy="307764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Book"/>
              </a:rPr>
              <a:t>The verb </a:t>
            </a:r>
            <a:r>
              <a:rPr b="1" lang="es-ES" sz="1400" spc="-1" strike="noStrike">
                <a:solidFill>
                  <a:srgbClr val="ff0000"/>
                </a:solidFill>
                <a:latin typeface="Franklin Gothic Book"/>
              </a:rPr>
              <a:t>"b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The verb 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Book"/>
              </a:rPr>
              <a:t>be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can be used as an auxiliary and a full verb. As an auxiliary we use this verb for compound tenses and the passive voice. Note that 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Book"/>
              </a:rPr>
              <a:t>be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is an irregular verb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Book"/>
              </a:rPr>
              <a:t>The verb "</a:t>
            </a:r>
            <a:r>
              <a:rPr b="1" lang="es-ES" sz="1400" spc="-1" strike="noStrike">
                <a:solidFill>
                  <a:srgbClr val="ff0000"/>
                </a:solidFill>
                <a:latin typeface="Franklin Gothic Book"/>
              </a:rPr>
              <a:t>hav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The verb 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Book"/>
              </a:rPr>
              <a:t>have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, too, can be used both as an auxiliary and as a full verb. As an auxiliary we use this verb to form compound tenses in active and passive voice. (Use the past participle of the full ver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Book"/>
              </a:rPr>
              <a:t>The verb </a:t>
            </a:r>
            <a:r>
              <a:rPr b="1" lang="es-ES" sz="1400" spc="-1" strike="noStrike">
                <a:solidFill>
                  <a:srgbClr val="ff0000"/>
                </a:solidFill>
                <a:latin typeface="Franklin Gothic Book"/>
              </a:rPr>
              <a:t>"wil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The verb 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Book"/>
              </a:rPr>
              <a:t>will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can only be used as an auxiliary. We use it to form the future ten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Book"/>
              </a:rPr>
              <a:t>The verb </a:t>
            </a:r>
            <a:r>
              <a:rPr b="1" lang="es-ES" sz="1400" spc="-1" strike="noStrike">
                <a:solidFill>
                  <a:srgbClr val="ff0000"/>
                </a:solidFill>
                <a:latin typeface="Franklin Gothic Book"/>
              </a:rPr>
              <a:t>"d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The verb 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Book"/>
              </a:rPr>
              <a:t>do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can be both an auxiliary and a full verb. As an auxiliary we use 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Book"/>
              </a:rPr>
              <a:t>do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in negative sentences and questions for most verbs (except not for 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Book"/>
              </a:rPr>
              <a:t>be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Book"/>
              </a:rPr>
              <a:t>will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Book"/>
              </a:rPr>
              <a:t>have got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and modal verbs) in Simple Present and Simple Past. (Use the infinitive of the full ver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7 CuadroTexto"/>
          <p:cNvSpPr/>
          <p:nvPr/>
        </p:nvSpPr>
        <p:spPr>
          <a:xfrm>
            <a:off x="2411280" y="6524640"/>
            <a:ext cx="6732720" cy="27648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Franklin Gothic Book"/>
              </a:rPr>
              <a:t>source: http://www.writingcentre.uottawa.ca/hypergrammar/link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3 Imagen" descr="lluvia_de_letras-13240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023240"/>
          </a:xfrm>
          <a:prstGeom prst="rect">
            <a:avLst/>
          </a:prstGeom>
          <a:ln w="0">
            <a:noFill/>
          </a:ln>
        </p:spPr>
      </p:pic>
      <p:sp>
        <p:nvSpPr>
          <p:cNvPr id="438" name="4 CuadroTexto"/>
          <p:cNvSpPr/>
          <p:nvPr/>
        </p:nvSpPr>
        <p:spPr>
          <a:xfrm>
            <a:off x="2989440" y="152280"/>
            <a:ext cx="3165120" cy="58140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Franklin Gothic Book"/>
              </a:rPr>
              <a:t>The four 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 CuadroTexto"/>
          <p:cNvSpPr/>
          <p:nvPr/>
        </p:nvSpPr>
        <p:spPr>
          <a:xfrm>
            <a:off x="755640" y="2965320"/>
            <a:ext cx="1728720" cy="1068840"/>
          </a:xfrm>
          <a:prstGeom prst="rect">
            <a:avLst/>
          </a:prstGeom>
          <a:solidFill>
            <a:srgbClr val="271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4ada0"/>
                </a:solidFill>
                <a:latin typeface="Franklin Gothic Book"/>
              </a:rPr>
              <a:t>Parts of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8 CuadroTexto"/>
          <p:cNvSpPr/>
          <p:nvPr/>
        </p:nvSpPr>
        <p:spPr>
          <a:xfrm>
            <a:off x="6372360" y="2824200"/>
            <a:ext cx="2232000" cy="2043720"/>
          </a:xfrm>
          <a:prstGeom prst="rect">
            <a:avLst/>
          </a:prstGeom>
          <a:solidFill>
            <a:srgbClr val="271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4ada0"/>
                </a:solidFill>
                <a:latin typeface="Franklin Gothic Book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4ada0"/>
                </a:solidFill>
                <a:latin typeface="Franklin Gothic Book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4ada0"/>
                </a:solidFill>
                <a:latin typeface="Franklin Gothic Book"/>
              </a:rPr>
              <a:t>compl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9 CuadroTexto"/>
          <p:cNvSpPr/>
          <p:nvPr/>
        </p:nvSpPr>
        <p:spPr>
          <a:xfrm>
            <a:off x="3492360" y="4869000"/>
            <a:ext cx="2159280" cy="2043720"/>
          </a:xfrm>
          <a:prstGeom prst="rect">
            <a:avLst/>
          </a:prstGeom>
          <a:solidFill>
            <a:srgbClr val="271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4ada0"/>
                </a:solidFill>
                <a:latin typeface="Franklin Gothic Book"/>
              </a:rPr>
              <a:t>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4ada0"/>
                </a:solidFill>
                <a:latin typeface="Franklin Gothic Book"/>
              </a:rPr>
              <a:t>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4ada0"/>
                </a:solidFill>
                <a:latin typeface="Franklin Gothic Book"/>
              </a:rPr>
              <a:t>sentenc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10 CuadroTexto"/>
          <p:cNvSpPr/>
          <p:nvPr/>
        </p:nvSpPr>
        <p:spPr>
          <a:xfrm>
            <a:off x="3492360" y="1197000"/>
            <a:ext cx="1727280" cy="1068840"/>
          </a:xfrm>
          <a:prstGeom prst="rect">
            <a:avLst/>
          </a:prstGeom>
          <a:solidFill>
            <a:srgbClr val="271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4ada0"/>
                </a:solidFill>
                <a:latin typeface="Franklin Gothic Book"/>
              </a:rPr>
              <a:t>Verb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2 Flecha cuádruple"/>
          <p:cNvSpPr/>
          <p:nvPr/>
        </p:nvSpPr>
        <p:spPr>
          <a:xfrm flipH="1">
            <a:off x="2987640" y="2708280"/>
            <a:ext cx="2952720" cy="1800360"/>
          </a:xfrm>
          <a:custGeom>
            <a:avLst/>
            <a:gdLst>
              <a:gd name="textAreaLeft" fmla="*/ 61920 w 2952720"/>
              <a:gd name="textAreaRight" fmla="*/ 2890800 w 2952720"/>
              <a:gd name="textAreaTop" fmla="*/ 838080 h 1800360"/>
              <a:gd name="textAreaBottom" fmla="*/ 962280 h 1800360"/>
            </a:gdLst>
            <a:ahLst/>
            <a:rect l="textAreaLeft" t="textAreaTop" r="textAreaRight" b="textAreaBottom"/>
            <a:pathLst>
              <a:path w="2952750" h="1800225">
                <a:moveTo>
                  <a:pt x="0" y="900113"/>
                </a:moveTo>
                <a:lnTo>
                  <a:pt x="405051" y="495062"/>
                </a:lnTo>
                <a:lnTo>
                  <a:pt x="405051" y="837906"/>
                </a:lnTo>
                <a:lnTo>
                  <a:pt x="1414168" y="837906"/>
                </a:lnTo>
                <a:lnTo>
                  <a:pt x="1414168" y="405051"/>
                </a:lnTo>
                <a:lnTo>
                  <a:pt x="1071324" y="405051"/>
                </a:lnTo>
                <a:lnTo>
                  <a:pt x="1476375" y="0"/>
                </a:lnTo>
                <a:lnTo>
                  <a:pt x="1881426" y="405051"/>
                </a:lnTo>
                <a:lnTo>
                  <a:pt x="1538582" y="405051"/>
                </a:lnTo>
                <a:lnTo>
                  <a:pt x="1538582" y="837906"/>
                </a:lnTo>
                <a:lnTo>
                  <a:pt x="2547699" y="837906"/>
                </a:lnTo>
                <a:lnTo>
                  <a:pt x="2547699" y="495062"/>
                </a:lnTo>
                <a:lnTo>
                  <a:pt x="2952750" y="900113"/>
                </a:lnTo>
                <a:lnTo>
                  <a:pt x="2547699" y="1305163"/>
                </a:lnTo>
                <a:lnTo>
                  <a:pt x="2547699" y="962319"/>
                </a:lnTo>
                <a:lnTo>
                  <a:pt x="1538582" y="962319"/>
                </a:lnTo>
                <a:lnTo>
                  <a:pt x="1538582" y="1395174"/>
                </a:lnTo>
                <a:lnTo>
                  <a:pt x="1881426" y="1395174"/>
                </a:lnTo>
                <a:lnTo>
                  <a:pt x="1476375" y="1800225"/>
                </a:lnTo>
                <a:lnTo>
                  <a:pt x="1071324" y="1395174"/>
                </a:lnTo>
                <a:lnTo>
                  <a:pt x="1414168" y="1395174"/>
                </a:lnTo>
                <a:lnTo>
                  <a:pt x="1414168" y="962319"/>
                </a:lnTo>
                <a:lnTo>
                  <a:pt x="405051" y="962319"/>
                </a:lnTo>
                <a:lnTo>
                  <a:pt x="405051" y="1305163"/>
                </a:lnTo>
                <a:close/>
              </a:path>
            </a:pathLst>
          </a:custGeom>
          <a:solidFill>
            <a:srgbClr val="7c7154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11 Flecha doblada"/>
          <p:cNvSpPr/>
          <p:nvPr/>
        </p:nvSpPr>
        <p:spPr>
          <a:xfrm>
            <a:off x="1619280" y="1549440"/>
            <a:ext cx="1584360" cy="974520"/>
          </a:xfrm>
          <a:custGeom>
            <a:avLst/>
            <a:gdLst/>
            <a:ahLst/>
            <a:rect l="l" t="t" r="r" b="b"/>
            <a:pathLst>
              <a:path w="1584325" h="974725">
                <a:moveTo>
                  <a:pt x="0" y="974725"/>
                </a:moveTo>
                <a:lnTo>
                  <a:pt x="0" y="548283"/>
                </a:lnTo>
                <a:lnTo>
                  <a:pt x="0" y="548283"/>
                </a:lnTo>
                <a:arcTo wR="426442" hR="426442" stAng="10800000" swAng="5400008"/>
                <a:lnTo>
                  <a:pt x="1268368" y="121841"/>
                </a:lnTo>
                <a:lnTo>
                  <a:pt x="1268368" y="0"/>
                </a:lnTo>
                <a:lnTo>
                  <a:pt x="1584325" y="243681"/>
                </a:lnTo>
                <a:lnTo>
                  <a:pt x="1268368" y="487363"/>
                </a:lnTo>
                <a:lnTo>
                  <a:pt x="1268368" y="365522"/>
                </a:lnTo>
                <a:lnTo>
                  <a:pt x="426442" y="365522"/>
                </a:lnTo>
                <a:lnTo>
                  <a:pt x="426442" y="365522"/>
                </a:lnTo>
                <a:arcTo wR="182761" hR="182761" stAng="-5400000" swAng="-5400000"/>
                <a:lnTo>
                  <a:pt x="243681" y="97472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c7bfa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12 Flecha doblada"/>
          <p:cNvSpPr/>
          <p:nvPr/>
        </p:nvSpPr>
        <p:spPr>
          <a:xfrm rot="5400000">
            <a:off x="5676840" y="1330200"/>
            <a:ext cx="1206360" cy="1689120"/>
          </a:xfrm>
          <a:custGeom>
            <a:avLst/>
            <a:gdLst/>
            <a:ahLst/>
            <a:rect l="l" t="t" r="r" b="b"/>
            <a:pathLst>
              <a:path w="1206500" h="1689100">
                <a:moveTo>
                  <a:pt x="0" y="1689100"/>
                </a:moveTo>
                <a:lnTo>
                  <a:pt x="0" y="657699"/>
                </a:lnTo>
                <a:lnTo>
                  <a:pt x="0" y="657699"/>
                </a:lnTo>
                <a:arcTo wR="527844" hR="527844" stAng="-10799993" swAng="5400000"/>
                <a:lnTo>
                  <a:pt x="904875" y="129856"/>
                </a:lnTo>
                <a:lnTo>
                  <a:pt x="904875" y="0"/>
                </a:lnTo>
                <a:lnTo>
                  <a:pt x="1206500" y="244606"/>
                </a:lnTo>
                <a:lnTo>
                  <a:pt x="904875" y="489212"/>
                </a:lnTo>
                <a:lnTo>
                  <a:pt x="904875" y="359356"/>
                </a:lnTo>
                <a:lnTo>
                  <a:pt x="527844" y="359356"/>
                </a:lnTo>
                <a:lnTo>
                  <a:pt x="527844" y="359356"/>
                </a:lnTo>
                <a:arcTo wR="298343" hR="298343" stAng="-5400000" swAng="-5400000"/>
                <a:lnTo>
                  <a:pt x="229500" y="16891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13 Flecha doblada"/>
          <p:cNvSpPr/>
          <p:nvPr/>
        </p:nvSpPr>
        <p:spPr>
          <a:xfrm flipV="1">
            <a:off x="1619280" y="4393440"/>
            <a:ext cx="1584360" cy="1655640"/>
          </a:xfrm>
          <a:custGeom>
            <a:avLst/>
            <a:gdLst/>
            <a:ahLst/>
            <a:rect l="l" t="t" r="r" b="b"/>
            <a:pathLst>
              <a:path w="1584325" h="1655763">
                <a:moveTo>
                  <a:pt x="0" y="1655763"/>
                </a:moveTo>
                <a:lnTo>
                  <a:pt x="0" y="963381"/>
                </a:lnTo>
                <a:lnTo>
                  <a:pt x="0" y="963381"/>
                </a:lnTo>
                <a:arcTo wR="693142" hR="693142" stAng="-10799995" swAng="5400000"/>
                <a:lnTo>
                  <a:pt x="1188244" y="270238"/>
                </a:lnTo>
                <a:lnTo>
                  <a:pt x="1188244" y="0"/>
                </a:lnTo>
                <a:lnTo>
                  <a:pt x="1584325" y="396081"/>
                </a:lnTo>
                <a:lnTo>
                  <a:pt x="1188244" y="792163"/>
                </a:lnTo>
                <a:lnTo>
                  <a:pt x="1188244" y="521924"/>
                </a:lnTo>
                <a:lnTo>
                  <a:pt x="693142" y="521924"/>
                </a:lnTo>
                <a:lnTo>
                  <a:pt x="693142" y="521924"/>
                </a:lnTo>
                <a:arcTo wR="441456" hR="441456" stAng="-5399992" swAng="-5400000"/>
                <a:lnTo>
                  <a:pt x="251686" y="165576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14 Flecha doblada"/>
          <p:cNvSpPr/>
          <p:nvPr/>
        </p:nvSpPr>
        <p:spPr>
          <a:xfrm flipV="1" rot="16200000">
            <a:off x="6282000" y="4291560"/>
            <a:ext cx="844560" cy="1528920"/>
          </a:xfrm>
          <a:custGeom>
            <a:avLst/>
            <a:gdLst/>
            <a:ahLst/>
            <a:rect l="l" t="t" r="r" b="b"/>
            <a:pathLst>
              <a:path w="844550" h="1528763">
                <a:moveTo>
                  <a:pt x="0" y="1528763"/>
                </a:moveTo>
                <a:lnTo>
                  <a:pt x="0" y="475059"/>
                </a:lnTo>
                <a:lnTo>
                  <a:pt x="0" y="475059"/>
                </a:lnTo>
                <a:arcTo wR="369491" hR="369491" stAng="10800000" swAng="5400009"/>
                <a:lnTo>
                  <a:pt x="633413" y="105569"/>
                </a:lnTo>
                <a:lnTo>
                  <a:pt x="633413" y="0"/>
                </a:lnTo>
                <a:lnTo>
                  <a:pt x="844550" y="211138"/>
                </a:lnTo>
                <a:lnTo>
                  <a:pt x="633413" y="422275"/>
                </a:lnTo>
                <a:lnTo>
                  <a:pt x="633413" y="316706"/>
                </a:lnTo>
                <a:lnTo>
                  <a:pt x="369491" y="316706"/>
                </a:lnTo>
                <a:lnTo>
                  <a:pt x="369491" y="316706"/>
                </a:lnTo>
                <a:arcTo wR="158353" hR="158353" stAng="-5400000" swAng="-5400000"/>
                <a:lnTo>
                  <a:pt x="211138" y="1528763"/>
                </a:lnTo>
                <a:close/>
              </a:path>
            </a:pathLst>
          </a:custGeom>
          <a:solidFill>
            <a:srgbClr val="e7d6c5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3 Imagen" descr="lluvia_de_letras-13240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023240"/>
          </a:xfrm>
          <a:prstGeom prst="rect">
            <a:avLst/>
          </a:prstGeom>
          <a:ln w="0">
            <a:noFill/>
          </a:ln>
        </p:spPr>
      </p:pic>
      <p:sp>
        <p:nvSpPr>
          <p:cNvPr id="402" name="5 CuadroTexto"/>
          <p:cNvSpPr/>
          <p:nvPr/>
        </p:nvSpPr>
        <p:spPr>
          <a:xfrm>
            <a:off x="684360" y="1484280"/>
            <a:ext cx="7632720" cy="3569400"/>
          </a:xfrm>
          <a:prstGeom prst="rect">
            <a:avLst/>
          </a:prstGeom>
          <a:solidFill>
            <a:srgbClr val="fce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The Parts of Speech</a:t>
            </a:r>
            <a:br>
              <a:rPr sz="2800"/>
            </a:br>
            <a:br>
              <a:rPr sz="2800"/>
            </a:br>
            <a:r>
              <a:rPr b="0" lang="es-MX" sz="2000" spc="-1" strike="noStrike">
                <a:solidFill>
                  <a:srgbClr val="000000"/>
                </a:solidFill>
                <a:latin typeface="Franklin Gothic Book"/>
              </a:rPr>
              <a:t>Traditional grammar classifies words based on nine </a:t>
            </a:r>
            <a:r>
              <a:rPr b="1" lang="es-MX" sz="2000" spc="-1" strike="noStrike">
                <a:solidFill>
                  <a:srgbClr val="000000"/>
                </a:solidFill>
                <a:latin typeface="Franklin Gothic Book"/>
              </a:rPr>
              <a:t>parts of speech</a:t>
            </a:r>
            <a:r>
              <a:rPr b="0" lang="es-MX" sz="2000" spc="-1" strike="noStrike">
                <a:solidFill>
                  <a:srgbClr val="000000"/>
                </a:solidFill>
                <a:latin typeface="Franklin Gothic Book"/>
              </a:rPr>
              <a:t>: the verb, the noun, the pronoun, the adjective, the adverb, the article, the preposition, the conjunction, and the interjection.</a:t>
            </a: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Franklin Gothic Book"/>
              </a:rPr>
              <a:t>Each </a:t>
            </a:r>
            <a:r>
              <a:rPr b="1" lang="es-MX" sz="2000" spc="-1" strike="noStrike">
                <a:solidFill>
                  <a:srgbClr val="000000"/>
                </a:solidFill>
                <a:latin typeface="Franklin Gothic Book"/>
              </a:rPr>
              <a:t>part of speech</a:t>
            </a:r>
            <a:r>
              <a:rPr b="0" lang="es-MX" sz="2000" spc="-1" strike="noStrike">
                <a:solidFill>
                  <a:srgbClr val="000000"/>
                </a:solidFill>
                <a:latin typeface="Franklin Gothic Book"/>
              </a:rPr>
              <a:t> explains not what the word </a:t>
            </a:r>
            <a:r>
              <a:rPr b="0" i="1" lang="es-MX" sz="2000" spc="-1" strike="noStrike">
                <a:solidFill>
                  <a:srgbClr val="000000"/>
                </a:solidFill>
                <a:latin typeface="Franklin Gothic Book"/>
              </a:rPr>
              <a:t>is</a:t>
            </a:r>
            <a:r>
              <a:rPr b="0" lang="es-MX" sz="2000" spc="-1" strike="noStrike">
                <a:solidFill>
                  <a:srgbClr val="000000"/>
                </a:solidFill>
                <a:latin typeface="Franklin Gothic Book"/>
              </a:rPr>
              <a:t>, but how the word </a:t>
            </a:r>
            <a:r>
              <a:rPr b="0" i="1" lang="es-MX" sz="2000" spc="-1" strike="noStrike">
                <a:solidFill>
                  <a:srgbClr val="000000"/>
                </a:solidFill>
                <a:latin typeface="Franklin Gothic Book"/>
              </a:rPr>
              <a:t>is used</a:t>
            </a:r>
            <a:r>
              <a:rPr b="0" lang="es-MX" sz="2000" spc="-1" strike="noStrike">
                <a:solidFill>
                  <a:srgbClr val="000000"/>
                </a:solidFill>
                <a:latin typeface="Franklin Gothic Book"/>
              </a:rPr>
              <a:t>. In fact, the same word can be a noun in one sentence and a verb or adjective in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6 CuadroTexto"/>
          <p:cNvSpPr/>
          <p:nvPr/>
        </p:nvSpPr>
        <p:spPr>
          <a:xfrm>
            <a:off x="2411280" y="6524640"/>
            <a:ext cx="6732720" cy="27648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Franklin Gothic Book"/>
              </a:rPr>
              <a:t>http://www.writingcentre.uottawa.ca/hypergrammar/parts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3 Imagen" descr="lluvia_de_letras-13240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023240"/>
          </a:xfrm>
          <a:prstGeom prst="rect">
            <a:avLst/>
          </a:prstGeom>
          <a:ln w="0">
            <a:noFill/>
          </a:ln>
        </p:spPr>
      </p:pic>
      <p:sp>
        <p:nvSpPr>
          <p:cNvPr id="405" name="5 CuadroTexto"/>
          <p:cNvSpPr/>
          <p:nvPr/>
        </p:nvSpPr>
        <p:spPr>
          <a:xfrm>
            <a:off x="684360" y="1125360"/>
            <a:ext cx="7632720" cy="4818240"/>
          </a:xfrm>
          <a:prstGeom prst="rect">
            <a:avLst/>
          </a:prstGeom>
          <a:solidFill>
            <a:srgbClr val="fce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Franklin Gothic Book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Franklin Gothic Book"/>
              </a:rPr>
              <a:t>The verb is perhaps the most important part of the sentence. A verb or compound verb asserts something about the subject of the sentence and express actions, events, or states of be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Franklin Gothic Book"/>
              </a:rPr>
              <a:t>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Franklin Gothic Book"/>
              </a:rPr>
              <a:t>A noun is a word used to name a person, animal, place, thing, and abstract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Franklin Gothic Book"/>
              </a:rPr>
              <a:t>Pro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Franklin Gothic Book"/>
              </a:rPr>
              <a:t>A pronoun can replace a noun or another pronoun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Franklin Gothic Book"/>
              </a:rPr>
              <a:t>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Franklin Gothic Book"/>
              </a:rPr>
              <a:t>An adjective modifies a noun or a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Franklin Gothic Book"/>
              </a:rPr>
              <a:t>pronou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n </a:t>
            </a:r>
            <a:r>
              <a:rPr b="0" lang="es-MX" sz="1800" spc="-1" strike="noStrike">
                <a:solidFill>
                  <a:srgbClr val="000000"/>
                </a:solidFill>
                <a:latin typeface="Franklin Gothic Book"/>
              </a:rPr>
              <a:t>by describing, identifying, or quantifying words. An adjective usually precedes the noun or the pronoun which it modif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Franklin Gothic Book"/>
              </a:rPr>
              <a:t>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/an are used to show one non-specific thing. The is used to show a specific thing or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6 CuadroTexto"/>
          <p:cNvSpPr/>
          <p:nvPr/>
        </p:nvSpPr>
        <p:spPr>
          <a:xfrm>
            <a:off x="2411280" y="6524640"/>
            <a:ext cx="6732720" cy="27648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Franklin Gothic Book"/>
              </a:rPr>
              <a:t>http://www.writingcentre.uottawa.ca/hypergrammar/parts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3 Imagen" descr="lluvia_de_letras-13240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023240"/>
          </a:xfrm>
          <a:prstGeom prst="rect">
            <a:avLst/>
          </a:prstGeom>
          <a:ln w="0">
            <a:noFill/>
          </a:ln>
        </p:spPr>
      </p:pic>
      <p:sp>
        <p:nvSpPr>
          <p:cNvPr id="408" name="5 CuadroTexto"/>
          <p:cNvSpPr/>
          <p:nvPr/>
        </p:nvSpPr>
        <p:spPr>
          <a:xfrm>
            <a:off x="684360" y="1484280"/>
            <a:ext cx="7632720" cy="4362840"/>
          </a:xfrm>
          <a:prstGeom prst="rect">
            <a:avLst/>
          </a:prstGeom>
          <a:solidFill>
            <a:srgbClr val="fce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Franklin Gothic Book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Franklin Gothic Book"/>
              </a:rPr>
              <a:t>An adverb can modify a verb, an adjective, another adverb, a phrase, or a clause. An adverb indicates manner, time, place, cause, or degree and answers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Franklin Gothic Book"/>
              </a:rPr>
              <a:t>Pr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Franklin Gothic Book"/>
              </a:rPr>
              <a:t>A preposition links nouns, pronouns and phrases to other words in a sentence. The word or phrase that the preposition introduces is called the object of the pre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s-MX" sz="2000" spc="-1" strike="noStrike">
                <a:solidFill>
                  <a:srgbClr val="000000"/>
                </a:solidFill>
                <a:latin typeface="Franklin Gothic Book"/>
              </a:rPr>
              <a:t>Conj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Franklin Gothic Book"/>
              </a:rPr>
              <a:t>You can use a conjunction to link words, phr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Franklin Gothic Book"/>
              </a:rPr>
              <a:t>Inter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Franklin Gothic Book"/>
              </a:rPr>
              <a:t>An interjection is a word added to a sentence to convey emotion. It is not grammatically related to any other part of the 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6 CuadroTexto"/>
          <p:cNvSpPr/>
          <p:nvPr/>
        </p:nvSpPr>
        <p:spPr>
          <a:xfrm>
            <a:off x="2411280" y="6524640"/>
            <a:ext cx="6732720" cy="27648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Franklin Gothic Book"/>
              </a:rPr>
              <a:t>http://www.writingcentre.uottawa.ca/hypergrammar/parts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3 Imagen" descr="lluvia_de_letras-13240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023240"/>
          </a:xfrm>
          <a:prstGeom prst="rect">
            <a:avLst/>
          </a:prstGeom>
          <a:ln w="0">
            <a:noFill/>
          </a:ln>
        </p:spPr>
      </p:pic>
      <p:sp>
        <p:nvSpPr>
          <p:cNvPr id="411" name="4 CuadroTexto"/>
          <p:cNvSpPr/>
          <p:nvPr/>
        </p:nvSpPr>
        <p:spPr>
          <a:xfrm>
            <a:off x="900000" y="692280"/>
            <a:ext cx="7488360" cy="161856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Franklin Gothic Book"/>
              </a:rPr>
              <a:t>SIMPLE, and </a:t>
            </a:r>
            <a:r>
              <a:rPr b="0" lang="es-MX" sz="2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Franklin Gothic Book"/>
              </a:rPr>
              <a:t>COMPOUND SENTENCES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 compound sentence contains two independent clauses joined by a coordinator.  subjects are in yellow, verbs are in green, and the coordinators and the commas that precede them are in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763640" y="2492280"/>
          <a:ext cx="5683320" cy="1584360"/>
        </p:xfrm>
        <a:graphic>
          <a:graphicData uri="http://schemas.openxmlformats.org/drawingml/2006/table">
            <a:tbl>
              <a:tblPr/>
              <a:tblGrid>
                <a:gridCol w="5683320"/>
              </a:tblGrid>
              <a:tr h="13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. So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rebuchet MS"/>
                          <a:ea typeface="Times New Roman"/>
                        </a:rPr>
                        <a:t> students </a:t>
                      </a: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Trebuchet MS"/>
                          <a:ea typeface="Times New Roman"/>
                        </a:rPr>
                        <a:t>like to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udy in the mornings.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.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rebuchet MS"/>
                          <a:ea typeface="Times New Roman"/>
                        </a:rPr>
                        <a:t> Jua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n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rebuchet MS"/>
                          <a:ea typeface="Times New Roman"/>
                        </a:rPr>
                        <a:t>Arturo </a:t>
                      </a: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Trebuchet MS"/>
                          <a:ea typeface="Times New Roman"/>
                        </a:rPr>
                        <a:t>play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otball every afternoon.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.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rebuchet MS"/>
                          <a:ea typeface="Times New Roman"/>
                        </a:rPr>
                        <a:t>Alici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Trebuchet MS"/>
                          <a:ea typeface="Times New Roman"/>
                        </a:rPr>
                        <a:t>goe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o the library and </a:t>
                      </a: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Trebuchet MS"/>
                          <a:ea typeface="Times New Roman"/>
                        </a:rPr>
                        <a:t>studie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very d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</a:tr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1828800" y="4365720"/>
          <a:ext cx="5767560" cy="1439640"/>
        </p:xfrm>
        <a:graphic>
          <a:graphicData uri="http://schemas.openxmlformats.org/drawingml/2006/table">
            <a:tbl>
              <a:tblPr/>
              <a:tblGrid>
                <a:gridCol w="5767560"/>
              </a:tblGrid>
              <a:tr h="14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.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rebuchet MS"/>
                          <a:ea typeface="Times New Roman"/>
                        </a:rPr>
                        <a:t>I</a:t>
                      </a: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Trebuchet MS"/>
                          <a:ea typeface="Times New Roman"/>
                        </a:rPr>
                        <a:t> trie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o speak Spanish,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an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rebuchet MS"/>
                          <a:ea typeface="Times New Roman"/>
                        </a:rPr>
                        <a:t>my friend tried to speak English.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.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rebuchet MS"/>
                          <a:ea typeface="Times New Roman"/>
                        </a:rPr>
                        <a:t>Alejandro </a:t>
                      </a: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Trebuchet MS"/>
                          <a:ea typeface="Times New Roman"/>
                        </a:rPr>
                        <a:t>playe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otball,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so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rebuchet MS"/>
                          <a:ea typeface="Times New Roman"/>
                        </a:rPr>
                        <a:t>Maria </a:t>
                      </a: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Trebuchet MS"/>
                          <a:ea typeface="Times New Roman"/>
                        </a:rPr>
                        <a:t>we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hopping.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.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rebuchet MS"/>
                          <a:ea typeface="Times New Roman"/>
                        </a:rPr>
                        <a:t>Alejandro </a:t>
                      </a: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Trebuchet MS"/>
                          <a:ea typeface="Times New Roman"/>
                        </a:rPr>
                        <a:t>playe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otball,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fo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rebuchet MS"/>
                          <a:ea typeface="Times New Roman"/>
                        </a:rPr>
                        <a:t>Maria </a:t>
                      </a: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Trebuchet MS"/>
                          <a:ea typeface="Times New Roman"/>
                        </a:rPr>
                        <a:t>we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hopp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3 Imagen" descr="lluvia_de_letras-13240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023240"/>
          </a:xfrm>
          <a:prstGeom prst="rect">
            <a:avLst/>
          </a:prstGeom>
          <a:ln w="0">
            <a:noFill/>
          </a:ln>
        </p:spPr>
      </p:pic>
      <p:sp>
        <p:nvSpPr>
          <p:cNvPr id="415" name="5 CuadroTexto"/>
          <p:cNvSpPr/>
          <p:nvPr/>
        </p:nvSpPr>
        <p:spPr>
          <a:xfrm>
            <a:off x="826920" y="882720"/>
            <a:ext cx="7490160" cy="222840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A complex sentence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has an independent clause joined by one or more dependent clauses. A complex sentence always has a subordinator such as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because, since, after, although,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or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 when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or a relative pronoun such as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that, who,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or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 which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. In the following complex sentences, subjects are in yellow, verbs are in green, and the subordinators and their commas (when required) are in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 CuadroTexto"/>
          <p:cNvSpPr/>
          <p:nvPr/>
        </p:nvSpPr>
        <p:spPr>
          <a:xfrm>
            <a:off x="615960" y="3860640"/>
            <a:ext cx="7912080" cy="3448080"/>
          </a:xfrm>
          <a:prstGeom prst="rect">
            <a:avLst/>
          </a:prstGeom>
          <a:solidFill>
            <a:srgbClr val="fce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.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When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h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handed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his homework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he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orgot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o give the teacher the last pag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. The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teache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returned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he homework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sh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noticed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the error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. The students </a:t>
            </a:r>
            <a:r>
              <a:rPr b="0" lang="en-US" sz="2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are studying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hey </a:t>
            </a:r>
            <a:r>
              <a:rPr b="0" lang="en-US" sz="2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have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 test tomorrow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.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After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 they </a:t>
            </a:r>
            <a:r>
              <a:rPr b="0" lang="en-US" sz="2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finished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tudying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Juan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d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Maria </a:t>
            </a:r>
            <a:r>
              <a:rPr b="0" lang="en-US" sz="2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wen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to the movi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.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 Juan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d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Maria </a:t>
            </a:r>
            <a:r>
              <a:rPr b="0" lang="en-US" sz="2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wen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to the movies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they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finished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tud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3 Imagen" descr="lluvia_de_letras-13240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023240"/>
          </a:xfrm>
          <a:prstGeom prst="rect">
            <a:avLst/>
          </a:prstGeom>
          <a:ln w="0">
            <a:noFill/>
          </a:ln>
        </p:spPr>
      </p:pic>
      <p:sp>
        <p:nvSpPr>
          <p:cNvPr id="418" name="4 CuadroTexto"/>
          <p:cNvSpPr/>
          <p:nvPr/>
        </p:nvSpPr>
        <p:spPr>
          <a:xfrm>
            <a:off x="900000" y="692280"/>
            <a:ext cx="3167280" cy="58140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Franklin Gothic Book"/>
              </a:rPr>
              <a:t>ACTION 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5 CuadroTexto"/>
          <p:cNvSpPr/>
          <p:nvPr/>
        </p:nvSpPr>
        <p:spPr>
          <a:xfrm>
            <a:off x="826920" y="1628640"/>
            <a:ext cx="7274160" cy="106884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Action verbs are used to show when somebody does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6 CuadroTexto"/>
          <p:cNvSpPr/>
          <p:nvPr/>
        </p:nvSpPr>
        <p:spPr>
          <a:xfrm>
            <a:off x="826920" y="2997360"/>
            <a:ext cx="7274160" cy="311148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ction verbs can also be actions you can't see such as: Sue </a:t>
            </a: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thought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about pets. She </a:t>
            </a: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wanted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a pupp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ction verbs are time-telling verbs. They also tell 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  something takes place. Example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y dog </a:t>
            </a: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runs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faster than yours. (present tens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Yesterday he </a:t>
            </a: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ran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around the block. (past tens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omorrow he </a:t>
            </a: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will ru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n a race. (future ten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ctions verbs main be used alone as the main verb of a sentence; as in: My kitten </a:t>
            </a: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fell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into the pond. Or the action verb may use a helping verb; as in: If you get too close to the edge, you </a:t>
            </a: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will fall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o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7 CuadroTexto"/>
          <p:cNvSpPr/>
          <p:nvPr/>
        </p:nvSpPr>
        <p:spPr>
          <a:xfrm>
            <a:off x="2411280" y="6524640"/>
            <a:ext cx="6732720" cy="27648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Franklin Gothic Book"/>
              </a:rPr>
              <a:t>source: http://www.kyrene.org/schools/brisas/sunda/verb/1ac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3 Imagen" descr="lluvia_de_letras-13240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023240"/>
          </a:xfrm>
          <a:prstGeom prst="rect">
            <a:avLst/>
          </a:prstGeom>
          <a:ln w="0">
            <a:noFill/>
          </a:ln>
        </p:spPr>
      </p:pic>
      <p:sp>
        <p:nvSpPr>
          <p:cNvPr id="423" name="4 CuadroTexto"/>
          <p:cNvSpPr/>
          <p:nvPr/>
        </p:nvSpPr>
        <p:spPr>
          <a:xfrm>
            <a:off x="324000" y="260280"/>
            <a:ext cx="2808000" cy="106884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Franklin Gothic Book"/>
              </a:rPr>
              <a:t>MODAL 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5 CuadroTexto"/>
          <p:cNvSpPr/>
          <p:nvPr/>
        </p:nvSpPr>
        <p:spPr>
          <a:xfrm>
            <a:off x="611280" y="1773360"/>
            <a:ext cx="2305080" cy="423108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dal verbs are special verbs which behave very differently from normal verb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1. Modal verbs do not take "-s" in the third pers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2. You use "not" to make modal verbs negative, even in Simple Present and Simple Pa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3. Many modal verbs cannot be used in the past tenses or the future ten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7 CuadroTexto"/>
          <p:cNvSpPr/>
          <p:nvPr/>
        </p:nvSpPr>
        <p:spPr>
          <a:xfrm>
            <a:off x="2411280" y="6524640"/>
            <a:ext cx="6732720" cy="45900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Franklin Gothic Book"/>
              </a:rPr>
              <a:t>source: http://www.myteacherpages.com/webpages/alfonsolopez/files/Modal%20Verb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2"/>
          <a:stretch/>
        </p:blipFill>
        <p:spPr>
          <a:xfrm>
            <a:off x="3419640" y="-65160"/>
            <a:ext cx="5545080" cy="651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3 Imagen" descr="lluvia_de_letras-13240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023240"/>
          </a:xfrm>
          <a:prstGeom prst="rect">
            <a:avLst/>
          </a:prstGeom>
          <a:ln w="0">
            <a:noFill/>
          </a:ln>
        </p:spPr>
      </p:pic>
      <p:sp>
        <p:nvSpPr>
          <p:cNvPr id="428" name="4 CuadroTexto"/>
          <p:cNvSpPr/>
          <p:nvPr/>
        </p:nvSpPr>
        <p:spPr>
          <a:xfrm>
            <a:off x="900000" y="692280"/>
            <a:ext cx="3167280" cy="58140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Franklin Gothic Book"/>
              </a:rPr>
              <a:t>LINKING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5 CuadroTexto"/>
          <p:cNvSpPr/>
          <p:nvPr/>
        </p:nvSpPr>
        <p:spPr>
          <a:xfrm>
            <a:off x="826920" y="1628640"/>
            <a:ext cx="7274160" cy="119124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linking verb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connects a subject to a subject complement which identifies or describes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6 CuadroTexto"/>
          <p:cNvSpPr/>
          <p:nvPr/>
        </p:nvSpPr>
        <p:spPr>
          <a:xfrm>
            <a:off x="826920" y="3141720"/>
            <a:ext cx="7274160" cy="393444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he play 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is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Waiting for God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Some of us thought that the play 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was</a:t>
            </a:r>
            <a:r>
              <a:rPr b="0" lang="es-ES" sz="1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very g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Others thought it</a:t>
            </a:r>
            <a:r>
              <a:rPr b="0" lang="es-ES" sz="1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became</a:t>
            </a:r>
            <a:r>
              <a:rPr b="0" lang="es-ES" sz="1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edious after the first fifteen min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he cast 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appears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disorganised and confused; perhaps Beckett intended th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he play 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seems</a:t>
            </a:r>
            <a:r>
              <a:rPr b="0" lang="es-ES" sz="1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absurd to 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Linking verbs are either verbs of sensation ("feel," "look," "smell," "sound," "taste") or verbs of existence ("act," "appear," "be," "become," "continue," "grow," "prove," "remain," "seem," "sit," "stand," "turn"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7 CuadroTexto"/>
          <p:cNvSpPr/>
          <p:nvPr/>
        </p:nvSpPr>
        <p:spPr>
          <a:xfrm>
            <a:off x="2411280" y="6524640"/>
            <a:ext cx="6732720" cy="276480"/>
          </a:xfrm>
          <a:prstGeom prst="rect">
            <a:avLst/>
          </a:prstGeom>
          <a:solidFill>
            <a:srgbClr val="fbeec9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Franklin Gothic Book"/>
              </a:rPr>
              <a:t>source: http://www.writingcentre.uottawa.ca/hypergrammar/link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28:43Z</dcterms:created>
  <dc:creator>L00640102</dc:creator>
  <dc:description/>
  <dc:language>en-US</dc:language>
  <cp:lastModifiedBy>L00244905</cp:lastModifiedBy>
  <dcterms:modified xsi:type="dcterms:W3CDTF">2012-02-14T20:44:41Z</dcterms:modified>
  <cp:revision>41</cp:revision>
  <dc:subject/>
  <dc:title>Diapositiva 1</dc:title>
</cp:coreProperties>
</file>